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F0E-7A0C-4797-8C00-387A9565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CD1-5229-4333-9635-28B0662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05C71-663D-4ECE-81EF-7A134DC9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9D189-DF75-4E88-A12E-E9343A38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8969A-10D1-491C-833E-58F2FC0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4C8CA-9C1C-4E1A-94AC-0938656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21E3-DFF3-4532-83AC-1B38AD4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86AD5-6B9A-436B-81E8-C5F8540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48A95-EACA-410B-8B5B-2265DBA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F47E1-B3E6-4A42-B78B-503CD0BA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AE78E-A9FD-4A4D-81F4-7D064B62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7EBEE-E726-4E8A-A055-2FB622C9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E12-433A-468D-BBD5-F18BE5E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05237-FBF0-4DBF-938B-76E2467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CEFF8-3163-4C57-B987-85FFDDA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9421C-1F9B-4980-AB97-82490DF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04F34-B2B5-484C-8E07-1EB5C97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E173-44A0-45C4-B29C-78CCDC9F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3DA9-B7AB-446C-9DB8-7B70892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60ABD-F6A3-420C-AA91-6002E89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662D5-E06F-488B-90CC-AE1DAD4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CABD6-21AB-42E8-B865-311FF9F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B3807-0EDB-49DF-9023-9BCA66E6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CD4-5A21-4567-9DC4-684C4AC2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A6AD-9FDA-4260-AD98-AEB21635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00B2-0837-4A4B-9CBA-884F8EB6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F200-56E4-4684-B42C-33D485C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20FA1-6198-4D53-B21E-A7BDAE1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4D5B-34AF-4469-BA6B-5D39B9C1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F0573-EF08-475A-8AE9-9772C15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2FEE-694C-48AC-BE29-A3A6955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17227-A611-4524-A971-50CC8B9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DF2F7-B755-491F-8BF2-D3DDD68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6E91-F2EF-4DBE-8A52-55E8444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171-8C0B-415D-8ABF-42985BD7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BDC58-762E-4989-9F63-53F893B9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A1BDC-F390-4C27-B697-03F2D85A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20771-A0B4-482F-BE43-EC8BD04B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B1669-6CC1-40B8-845B-26185C5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39FE5-0002-4A7D-B512-79663E7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295AD-F95F-4816-8932-BAFB4A0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4CE9A-F6B8-4335-A8DD-770FE80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6BFDB-0E5D-49F0-BAA9-58A90058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144A-D352-40A9-98B0-DD072D47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2DBD9-B2D0-4E70-A395-E6A53B5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2CB-C410-4082-970E-317AEDE5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3B3F6-CAA6-49F8-A61E-2084950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58CED-83AA-492F-B2DD-F5C497A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1D69B-4C53-4B53-AC0C-740C844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58413-0A2C-4C0C-9941-C5739CD4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C831B-C468-4A4E-B0B9-3A551910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602-6F72-4623-A4BC-7B6E438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4278-DCC4-41C4-9962-F066459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761-825C-4CF1-90B4-015392E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63CB-0241-4B6E-83FD-511536B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97FA-FBDB-468E-A5B3-4A59AAD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991-3577-4E9C-A053-ADA65D00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F53-8293-444E-9ED4-D4A1F65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50FA-CDD6-496A-B17F-4B3684D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CA4A-9737-4953-A6C3-9949B3C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728-F400-454A-A5BA-F002E398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E73E-E841-4F06-AE2F-A8ACAE8D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EB0C-FE13-456F-A7FB-25503DBE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5A04-57BE-4CD8-95F3-08AFDB1F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69DB-083C-48F8-91EB-E305E5D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2159-91A0-4DB7-A6C0-50BCC5E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8204-E17F-42DF-9529-110738A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FF8-4489-4632-ACE6-85CFC94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BF34-4939-426B-A1D2-1017E0E6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D89B-618F-419D-B9E5-E9D0CD9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4438-65D3-49B8-B4B2-38BE476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AEEB-6771-4965-91C9-6074CE2A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4EE6-9153-44B7-A9E7-3EF0C8F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5628-3353-470A-8178-597D8F07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0372-16A2-4C12-B0FF-27299C36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C431-DE9F-4EFF-B63A-36AB83CF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D4C3-7B95-40A9-97D1-AC4C617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EE9D-69F5-4629-BAFA-0ECF8FB7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D8C-445A-4A41-95D1-72A10A76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29D4-F1E9-4222-AD12-92FA052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5931-91E8-4D34-9FB0-0FAD259A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5572-A843-4D0B-A335-53AF574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9977-006A-4094-89FE-02C66DB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A69A-B28B-478E-9879-324BB76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7933-BC5F-4995-9873-435FAB6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A2DE-258F-4F32-AE00-029FB46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80F4-C8AA-4543-9304-B2D2BD4A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D6D9-E7D0-4719-B086-A8312223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97E4-61B6-4A4F-A374-4DA5CF76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59C-E1AF-4C55-BAEA-72847590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CB29-6871-440D-A3F4-C65D933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4378-9055-4638-AC1A-110E6BB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869F-223B-4B35-B293-EF348B29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C9C8-6B45-4478-8260-3910B6C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47D4-5D45-43DF-9709-D2936DC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D84E8-B20D-405C-A450-93C0D0A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B51E-E1B3-4BF2-B168-06B265E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DB96-CC41-420E-983A-2071A8C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B005-EEE3-421C-8B45-CAFC66DA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F9A0-2372-4C09-96B4-A61D2948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230-AF17-46BD-858A-EC1B62C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E931-1846-4C46-B0CD-21868BC7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F167-6C59-487C-AA7E-36D69F8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C4B79-09BB-4BCD-B104-3116F070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5D09-FC0F-4B22-AECD-E514E86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480D-9D6F-4A6A-8620-E338D52E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3006-ECF5-48BA-A13B-639893EB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3D3AB-4ABE-480C-AA7D-0FC0F066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1FDE-DBCA-4A57-9008-C87072F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99DA-8F7F-4AB1-9E71-25E5BD7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906D-32FD-4D73-BCB3-D4E6208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1BF-17DB-46E6-9E39-C94E37AA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78E11-2AAF-4680-AA97-D259E826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452A-B1F3-4CF6-8AFA-3882BAFC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99B8-A8B9-40A5-9CFC-217750D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6DDF-01F8-4045-8A2D-9B8B19E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2E71C-9E8D-4340-ABFE-12F4DED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6A50-84B8-4EBC-B141-E051A38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C49D-98A1-424C-9967-1D514FBB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341C-A8EE-40A5-9D8B-BE3A9D6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4018-D933-429A-A5AA-3392410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C1FC-64B7-42E9-94DB-28F1B3F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307-B41E-4C63-AF99-CC6DD1C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6581-A799-4D61-B573-8A5C4E1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16538-2227-4BE7-B8CE-DA02354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6120-EB25-422C-9A55-BB872F4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80D46-754F-455B-967F-F6CBCD62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5D044-8253-40E6-85D2-E6D55DED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7EEE6-BCDC-4EC3-B89E-1D7EDD7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9CCF-C218-4557-A45C-F2E82D76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F6536-A5FB-494D-B35E-E5B94F2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D8801-1DB7-4D78-BB10-E7E1AE52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D5D0-F39D-4570-8F55-C9B94A3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02D-6F21-4EBB-B2A3-D0C6303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270A0-8EC4-41CA-B083-78ECB5AC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581E-D95A-4318-ADF3-8FD14DF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80741-A438-4354-A4AA-8E05138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91051-F5DF-4BC4-8104-C9FDEC7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C5C8C-235A-4C93-BEC7-05BA128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2E3E1-EFFB-4C25-A81A-37F4A5A7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0A5A-15EB-49D5-B369-57A992D8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E576-F03F-490A-8547-33BF1151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5E8D0-BB88-4E55-82AB-7DB806C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90008-5D42-4A78-BE91-2A51F38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EBC-645D-4D1E-82CB-A0D5A48E51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0F1-7D11-4877-97C9-717880F872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12D-2A56-4B47-BAFE-C99CCA7F16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ABD-FD97-4B56-AA74-27EA091614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972C-AB3D-4C82-81BE-8577FC784D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23E-BF9B-4A91-9A6D-508441DA64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121-96C6-4BCB-8962-1C1580B0F3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BD1-EFA6-4C54-9AEE-AF3E2DB8CC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81C-E9F2-4B79-9D3D-61E022BDFB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7D2A-0F73-4CB1-A2D2-FE3BCDDFDB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5748-0737-4D70-A431-34EB09719A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456-1D38-47A4-907A-DB20A225E9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9 Pán Ježiš ťa volá k s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ťa volá k s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čo otáľa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rdce ti ešte klop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dy mu ho d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ho nevieš rozhodnúť s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čo čakáš len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rýchlo uplynie 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hodni sa pre Ježi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ťa vol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ú k nemu otvore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vere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späť už sa neobze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osť všetko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emeškaj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ôžeš získať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deň svojej spásy zmešk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š ľut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mo budeš potom pros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e nariek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koro je!  Strašné slo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stratené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jde niekde pokoj srd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om zmámené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a deň dosiaľ trv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ešte stále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ého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e poz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smrťou vykúpil 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 jeho hlas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ťa ešte s láskou prij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je spásy č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43:22Z</dcterms:modified>
  <cp:revision>33</cp:revision>
  <dc:subject/>
  <dc:title>Je veľký náš Pán, on slávy je Kráľ Nech do všetkých strán  spev vrúcnych znie chvál.</dc:title>
</cp:coreProperties>
</file>